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71E3-ACA8-4C11-AA46-A2545AAA3ED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59C2-FC83-41EE-A594-D6D6B6E777B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521C-D1EC-46F0-A81C-4D46FE39531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D301-A614-4D7A-8C8D-DD5EDBBBF2C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BA9F-BAF2-4C42-B9F6-2D9D0149ACB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894-1BFA-4728-B407-9ECA679E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796-57B4-4F0D-AA62-CDBE57DE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C0B-E17A-465C-857B-C4FF33F9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534-73C1-4D64-A791-8000C187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B6B1-ACAB-43BD-8119-12A342B9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0DAB-211B-4784-BA7C-C4C23902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DFE7-DA9E-4C30-B2EB-2D072B42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6FAF-3044-4493-BE45-C0919ECF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D8FF-57A6-41D8-A2B1-4FD271FE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AECC-E81F-48BD-AE9B-CF9DF878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AB80-9E22-4CA8-9678-6B75C994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1DC-AF7E-4793-B7B1-3D703FE1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7D2D-7BCB-4541-9A48-5CDF42C3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12AD-DCBA-4834-83C5-96820FFE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011D-C881-4EEE-8048-8BC3E2A0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C2E5-3F8A-43D7-BCC0-F5B0DD64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0BE6-9821-4176-9768-38CA961C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1E4-8B49-4C6B-8AF4-F3534854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343-DFA5-4C8E-AC70-BC6990D5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D97-29EF-4E18-8C79-4D98FAF7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335C-F739-4F2E-BB3E-EC2B8255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1D0-BEDA-4CF0-9B0E-18C30679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6D2-6D30-4533-B84C-851D5322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28B-80E3-432F-9D07-84119C3F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Verdan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05B9-2412-45AE-B2E4-46034CEF9FA4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Verdan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817E-FD50-4AC4-AA05-571A2B46EBB4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7360" y="1676520"/>
            <a:ext cx="776772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Diabetes Mellitus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Pathology and complications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By</a:t>
            </a: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Times New Roman"/>
              </a:rPr>
              <a:t>Dr. Abdelaty Shawky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Assistant professor of patholog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C:\Users\ashawky\Desktop\mcst logo.jpg"/>
          <p:cNvPicPr/>
          <p:nvPr/>
        </p:nvPicPr>
        <p:blipFill>
          <a:blip r:embed="rId1"/>
          <a:stretch/>
        </p:blipFill>
        <p:spPr>
          <a:xfrm>
            <a:off x="5886360" y="762120"/>
            <a:ext cx="2629080" cy="66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Predisposing factors for D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599840"/>
            <a:ext cx="77724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fec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au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yocardial Infar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rok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rg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motional str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981A-644B-4400-A0D2-5A789F96774F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61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Clinical presentation of DK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Polyurea and polydepsi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Nausea and vomit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Anorexia and abdominal pai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Tachycardi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Sign of dehydra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Hypotoni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Com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196B-B4A7-4C00-AA15-15BB0BED9E58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Diagnosis of DK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Hyperglyce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Ketonuria and ketone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Acidosis (PH&lt; 7.3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52EE-2509-403E-A8BB-BF1A72B05012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Treatment of DK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2120" y="19810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luid replacement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Insulin therapy for hyperglycemi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Electrolyte corre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Acidosis corre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Treatment of precipitating cause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5060-B700-4FEC-9CEA-F6EFC0F57CAD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Complications of DK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160" y="16002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Cerebral ede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Vascular thrombo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Inf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M 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Respiratory distress  syndr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D56F-6D54-46B6-ADA9-BE7CD80DBC0B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5486400" cy="106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Hypoglycemic c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160" y="1828800"/>
            <a:ext cx="80010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ypoglycemia is the most frequent acute complication in type 1 diabe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ypoglycemia is the level of blood glucose at whic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utonomi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urologic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ysfunction begins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E309-FF7D-4CC2-A756-035288502029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15004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Clinical manifestations of hypoglycemi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utonomic dysfunction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. Hu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. Trem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3. Palp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. Anx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. Pal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6. Swe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B589-DA40-4B17-88AD-E5E724B9FE3E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eurologic dysfun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. Impaired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. Change of m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3. Irri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. Head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. Convul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6. 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1655-D138-4D75-9A6B-CF814EBB694C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Predisposing facto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047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Missed m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hange in physical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terations or errors in insulin do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cohol inges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7916-0EA5-4493-8D3F-7FB402E25C54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Treatment of hypoglyc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520" y="1676520"/>
            <a:ext cx="861084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In mild case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oral rapidly absorbed carbohydra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In sever case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(comatose patient) I.V hypertonic glucose 25% or 50% concentration &amp; glucagon inje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D35B-93CB-4F65-BE2D-0694F9D2A7EB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520"/>
            <a:ext cx="564336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Diabetes Melli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Metabolic disease affecting CHO, protein and fat metabolism due to insulin deficiency or in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wo typ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ype I  (insulin dependen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ype II (insulin independent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1371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Times New Roman"/>
              </a:rPr>
              <a:t>Chronic Complications of D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A. Macrovascular Complicatio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B. Microvascular Complicatio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1264-2101-4D54-A8CA-CB70B1F13E81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99776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A. Macro-vascular Complications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ccelerated atherosclero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volving the aorta and large- and medium-sized arter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yocardial infar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caused by atherosclerosis of the coronary arteries, is the most common cause of death in diabetic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angrene of the lower extrem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yperten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ue to Hyaline arteriolosclero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5B9D-D491-4FDE-ACE0-B6AE8CB6559E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1295280"/>
            <a:ext cx="86104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icrovascular complications are specific to diabetes and related to longstanding hyperglycaem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diabetes, the microvasculature shows bo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unction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tructur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bnormal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structural hallmark of diabetic microangiopathy is thickening of the capillary basement membra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85800" y="54756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Arial"/>
              </a:rPr>
              <a:t>B. </a:t>
            </a:r>
            <a:r>
              <a:rPr b="1" lang="hu-HU" sz="3200" spc="-1" strike="noStrike">
                <a:solidFill>
                  <a:srgbClr val="ff0000"/>
                </a:solidFill>
                <a:latin typeface="Verdana"/>
                <a:ea typeface="Arial"/>
              </a:rPr>
              <a:t>Microvascular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Arial"/>
              </a:rPr>
              <a:t>C</a:t>
            </a:r>
            <a:r>
              <a:rPr b="1" lang="hu-HU" sz="3200" spc="-1" strike="noStrike">
                <a:solidFill>
                  <a:srgbClr val="ff0000"/>
                </a:solidFill>
                <a:latin typeface="Verdana"/>
                <a:ea typeface="Arial"/>
              </a:rPr>
              <a:t>ompl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47D5-D594-4586-9B87-FDC4516959A5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Many chemical changes in basement membrane composition have been identified in diabetes, including increased type IV collagen and its glycosylation (i.e. binding of glucose to wall of blood vessel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4184-F854-4571-8AAC-4DE40EE8E93B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6840" y="380520"/>
            <a:ext cx="822636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main functional abnormalities include increased capillary permeability and disturbed platelet fun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creased capillary permeability is manifested in the retina by exudation and in the kidney by increased urinary losses of album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atelets from diabetic patients show an exaggerated tendency to aggregate, perhaps mediated by altered prostaglandin metabol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FBE0-2DEE-4186-B3F1-6A16DFBA4521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Diabetic retinopathy</a:t>
            </a:r>
            <a:r>
              <a:rPr b="1" lang="hu-H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5849-6EB4-4367-9579-BB03BE6F7233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* </a:t>
            </a: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thological les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hickening of the capillary basement membra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apillary dila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(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microaneurys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) which may give rise to;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aemorrhage or exud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red dots and blots)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Vascular occlu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leads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arge ischaemic are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cotton-wool spo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A728-BE21-43D9-8F63-DE478344191F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My Resource\Lectures\diabetes\normal retina.jpg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5003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Normal Ret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4"/>
          <p:cNvSpPr/>
          <p:nvPr/>
        </p:nvSpPr>
        <p:spPr>
          <a:xfrm rot="4465800">
            <a:off x="4304880" y="2057400"/>
            <a:ext cx="533160" cy="685800"/>
          </a:xfrm>
          <a:prstGeom prst="downArrow">
            <a:avLst>
              <a:gd name="adj1" fmla="val 50000"/>
              <a:gd name="adj2" fmla="val 32157"/>
            </a:avLst>
          </a:prstGeom>
          <a:solidFill>
            <a:srgbClr val="f0eb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5"/>
          <p:cNvSpPr/>
          <p:nvPr/>
        </p:nvSpPr>
        <p:spPr>
          <a:xfrm rot="3543600">
            <a:off x="4647960" y="335268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f0eb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CD7E-57E8-48E6-9FA6-11A6F2352DCA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A8A4-299E-4D08-9D25-C6595CEFE8C8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My Resource\Lectures\diabetes\diabetic retina1.jpg"/>
          <p:cNvPicPr/>
          <p:nvPr/>
        </p:nvPicPr>
        <p:blipFill>
          <a:blip r:embed="rId1"/>
          <a:stretch/>
        </p:blipFill>
        <p:spPr>
          <a:xfrm>
            <a:off x="685800" y="1523880"/>
            <a:ext cx="7924680" cy="52038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Diabetic Retinopa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4"/>
          <p:cNvSpPr/>
          <p:nvPr/>
        </p:nvSpPr>
        <p:spPr>
          <a:xfrm rot="4465800">
            <a:off x="6552720" y="308592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f0eb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5"/>
          <p:cNvSpPr/>
          <p:nvPr/>
        </p:nvSpPr>
        <p:spPr>
          <a:xfrm rot="3543600">
            <a:off x="4876560" y="2286000"/>
            <a:ext cx="533160" cy="685800"/>
          </a:xfrm>
          <a:prstGeom prst="downArrow">
            <a:avLst>
              <a:gd name="adj1" fmla="val 50000"/>
              <a:gd name="adj2" fmla="val 32157"/>
            </a:avLst>
          </a:prstGeom>
          <a:solidFill>
            <a:srgbClr val="f0eb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041800" y="1741320"/>
            <a:ext cx="3286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b16"/>
                </a:solidFill>
                <a:latin typeface="Times New Roman"/>
                <a:ea typeface="Arial"/>
              </a:rPr>
              <a:t>Cotton wool sp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7ECD-8FBC-49E3-A1EE-80CF85CAFF08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1066680"/>
          <a:ext cx="8381880" cy="5029200"/>
        </p:xfrm>
        <a:graphic>
          <a:graphicData uri="http://schemas.openxmlformats.org/drawingml/2006/table">
            <a:tbl>
              <a:tblPr/>
              <a:tblGrid>
                <a:gridCol w="1969920"/>
                <a:gridCol w="3332160"/>
                <a:gridCol w="3079800"/>
              </a:tblGrid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der 25 yea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ve 40 yea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B. Cell ma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u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duc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760" rIns="68760" tIns="0" bIns="0" anchor="t">
                      <a:noAutofit/>
                    </a:bodyPr>
                    <a:p>
                      <a:pPr marL="127080" indent="-127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Insulin se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u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du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Eti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edita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immune destruction of the B.cel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198360"/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reased insulin specific surface receptors on most of the body cel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198360"/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mature aging of body cells including B.cel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ACCE-530F-4FCB-99F7-29638B040677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Eye Co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827000"/>
            <a:ext cx="822636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Catara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Glau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Vitreous Blee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1532-B53D-42D9-BA24-709D808AFED6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347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treous Ble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402264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4514760" y="1941480"/>
            <a:ext cx="4022640" cy="3276720"/>
          </a:xfrm>
          <a:prstGeom prst="rect">
            <a:avLst/>
          </a:prstGeom>
          <a:ln w="0">
            <a:noFill/>
          </a:ln>
        </p:spPr>
      </p:pic>
      <p:sp>
        <p:nvSpPr>
          <p:cNvPr id="201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43A0-D8A8-42D3-82FF-B540496E1C25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Diabetic Nephropathy (D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EF77-2AE7-4456-A87E-3B58D6F73FA0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Diabetic nephropathy is defined by persistent albuminuria (&gt;300 mg/day)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crease glom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erular filtration rate and rising blood pres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 About 20 – 30% of patients with diabetes develop diabetic nephropathy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12E0-158B-411C-9717-48F3E4EA11F2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2971440"/>
            <a:ext cx="7313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  <a:ea typeface="Times New Roman"/>
              </a:rPr>
              <a:t>Diabetic Neuropath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A404-BE82-425B-892E-C13E2098CA8E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1. Sensorimotor neuropath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2. Autonomic neuropath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A0A1-44B3-475F-85A8-AD91B1655AD7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ensorimotor Neuropa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umbness, paresthes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eet are mostly affected, hands are seldom affe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licated by ulceration (painless), charcot arthropathy, Callos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03CE-B66E-463D-BF4E-3D5EC6C05E3C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10720" y="837720"/>
            <a:ext cx="78757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lications of Sensorimotor neur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Typical Neuropathic Ulcer"/>
          <p:cNvPicPr/>
          <p:nvPr/>
        </p:nvPicPr>
        <p:blipFill>
          <a:blip r:embed="rId1"/>
          <a:stretch/>
        </p:blipFill>
        <p:spPr>
          <a:xfrm>
            <a:off x="1143000" y="2209680"/>
            <a:ext cx="3736800" cy="281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5"/>
          <p:cNvSpPr/>
          <p:nvPr/>
        </p:nvSpPr>
        <p:spPr>
          <a:xfrm>
            <a:off x="2832120" y="242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2689200" y="19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12" descr="Charcot's arthropathy "/>
          <p:cNvPicPr/>
          <p:nvPr/>
        </p:nvPicPr>
        <p:blipFill>
          <a:blip r:embed="rId2"/>
          <a:stretch/>
        </p:blipFill>
        <p:spPr>
          <a:xfrm>
            <a:off x="5334120" y="2209680"/>
            <a:ext cx="3429000" cy="2819520"/>
          </a:xfrm>
          <a:prstGeom prst="rect">
            <a:avLst/>
          </a:prstGeom>
          <a:ln w="0">
            <a:noFill/>
          </a:ln>
        </p:spPr>
      </p:pic>
      <p:sp>
        <p:nvSpPr>
          <p:cNvPr id="224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742E-E594-492E-BB25-B57DA8D798E7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Autonomic Neuropa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8080" y="19807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ostural hypoten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iabetic diarrh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rectile dysf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3953-E4F1-43F8-8483-C31601CAA96C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440" y="685800"/>
            <a:ext cx="2590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0000"/>
                </a:solidFill>
                <a:latin typeface="Blackadder ITC"/>
                <a:ea typeface="Arial"/>
              </a:rPr>
              <a:t>The end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4" descr="C:\Users\ashawky\Desktop\photos\531816_10151360233905180_1023827343_n.jpg"/>
          <p:cNvPicPr/>
          <p:nvPr/>
        </p:nvPicPr>
        <p:blipFill>
          <a:blip r:embed="rId1"/>
          <a:stretch/>
        </p:blipFill>
        <p:spPr>
          <a:xfrm>
            <a:off x="3048120" y="217188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Mon 29 0ct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DE56-6EB1-4384-8DB7-EDA98F3478F4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Pathological les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1. Pancreas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In type I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ncreas is atrophic. M/P: degranulated and destroyed B.cells, lymphocytic infiltration and fibro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In type II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ncreas is normal. M/P: normal in early stage, later on shows hyalino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9A14-1FC6-4CF1-A0D7-DEA90EC41B17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2. Disturbance of metabolism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Carbohydrate metabolism: Hyperglycemia due to either decreased glucose utilization or due to glycogenolysis, leads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Glucose retention in the tissue (increase the liability to infect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Glycogen deposition in the tissues (heart, muscle, kidney and pancrea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Glucosuria: leads to osmotic diuresis and dehyd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9CFF-3AE3-47E2-9813-9D7D3E4BDA41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B. Fat metabolis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polysis:  Lead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Hyperlipidaemia (atheroma formation and fatty infiltration in the parenchymatous orga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Formation of ketone bodies in the liver with keto-acidosis and co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. Protein metabolis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s of we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B593-937A-4DAF-AA6F-6A8622CEDF9E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3. Vascular change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Diabetic macroangiopathy: accelerated atherosclerosis in aorta, large and medium sized arter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Hyaline arterioloscelrosis: hyaline thickening of the arterioles due to deposition of hyaline mate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Diabetic microangiopathy:  diffuse thickening of the basement membranes due to deposition of hyaline material. Involves predominantly the capillaries of, retina, renal glomeruli, and peripheral nerves.  Leads to diabetic nephropathy, retinopathy and neuropath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9CE5-EF9F-4B7F-9EE3-BA5C9B118C6F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* </a:t>
            </a:r>
            <a:r>
              <a:rPr b="1" i="1" lang="hu-H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lications of diabetes mellitus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10480" cy="5369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alibri"/>
                <a:ea typeface="Arial"/>
              </a:rPr>
              <a:t>Acute complications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1" lang="hu-HU" sz="2600" spc="-1" strike="noStrike">
                <a:solidFill>
                  <a:srgbClr val="000000"/>
                </a:solidFill>
                <a:latin typeface="Calibri"/>
                <a:ea typeface="Arial"/>
              </a:rPr>
              <a:t>iabetic ketoacido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ypoglycemic co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II.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  <a:ea typeface="Arial"/>
              </a:rPr>
              <a:t>Chronic complic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a. </a:t>
            </a:r>
            <a:r>
              <a:rPr b="1" lang="hu-H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Microvasc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etinopat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ephropat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Neuropat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b. </a:t>
            </a:r>
            <a:r>
              <a:rPr b="1" lang="hu-H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Macrovasc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Cerbrovascula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Cardiovascula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eripheral vascular disea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Diabetic ketoacidosis (DK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981080"/>
            <a:ext cx="83822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May be the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presentation of type 1 D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Result from absolute insulin deficiency or increase requirem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Mortality rate around 5%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1C14-FFF8-486E-BD75-1C54FC5627A9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22:31:21Z</dcterms:created>
  <dc:creator>buergeln</dc:creator>
  <dc:description/>
  <dc:language>en-US</dc:language>
  <cp:lastModifiedBy>Eman Enan</cp:lastModifiedBy>
  <dcterms:modified xsi:type="dcterms:W3CDTF">2015-10-06T07:27:37Z</dcterms:modified>
  <cp:revision>312</cp:revision>
  <dc:subject/>
  <dc:title>Diabetes</dc:title>
</cp:coreProperties>
</file>